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60" y="152388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229896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4598280" y="152388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3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229896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4598280" y="5344920"/>
            <a:ext cx="218952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360" y="1523880"/>
            <a:ext cx="6800760" cy="73152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360" y="1523880"/>
            <a:ext cx="680076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0"/>
            <a:ext cx="6858000" cy="329868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348444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36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60" y="1523880"/>
            <a:ext cx="3318480" cy="731520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3484440" y="534492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6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3484440" y="1523880"/>
            <a:ext cx="331848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360" y="5344920"/>
            <a:ext cx="6800760" cy="3489120"/>
          </a:xfrm>
          <a:prstGeom prst="rect">
            <a:avLst/>
          </a:prstGeom>
          <a:noFill/>
          <a:ln w="0">
            <a:noFill/>
          </a:ln>
        </p:spPr>
        <p:txBody>
          <a:bodyPr lIns="0" rIns="0" tIns="0" bIns="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6858000" cy="71136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60" y="1523880"/>
            <a:ext cx="6800760" cy="7315200"/>
          </a:xfrm>
          <a:prstGeom prst="rect">
            <a:avLst/>
          </a:prstGeom>
          <a:noFill/>
          <a:ln w="0">
            <a:noFill/>
          </a:ln>
        </p:spPr>
        <p:txBody>
          <a:bodyPr lIns="0" rIns="0" tIns="0" bIns="0" anchor="t">
            <a:normAutofit/>
          </a:bodyPr>
          <a:p>
            <a:pPr marL="171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74304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17172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143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258840" y="5709600"/>
            <a:ext cx="6440400" cy="3115440"/>
          </a:xfrm>
          <a:prstGeom prst="roundRect">
            <a:avLst>
              <a:gd name="adj" fmla="val 2292"/>
            </a:avLst>
          </a:prstGeom>
          <a:noFill/>
          <a:ln w="12600">
            <a:solidFill>
              <a:srgbClr val="000000"/>
            </a:solidFill>
            <a:miter/>
          </a:ln>
        </p:spPr>
        <p:style>
          <a:lnRef idx="0"/>
          <a:fillRef idx="0"/>
          <a:effectRef idx="0"/>
          <a:fontRef idx="minor"/>
        </p:style>
        <p:txBody>
          <a:bodyPr lIns="324000" rIns="324000" tIns="288000" bIns="288000" anchor="b">
            <a:spAutoFit/>
          </a:bodyPr>
          <a:p>
            <a:pPr>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1" lang="es-ES_tradnl" sz="1400" spc="-1" strike="noStrike">
                <a:solidFill>
                  <a:srgbClr val="000000"/>
                </a:solidFill>
                <a:latin typeface="Arial"/>
              </a:rPr>
              <a:t>Nota</a:t>
            </a:r>
            <a:endParaRPr b="0" lang="en-US" sz="1400" spc="-1" strike="noStrike">
              <a:solidFill>
                <a:srgbClr val="000000"/>
              </a:solidFill>
              <a:latin typeface="Times New Roman"/>
            </a:endParaRPr>
          </a:p>
          <a:p>
            <a:pPr>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endParaRPr b="0" lang="en-US" sz="1000" spc="-1" strike="noStrike">
              <a:solidFill>
                <a:srgbClr val="000000"/>
              </a:solidFill>
              <a:latin typeface="Times New Roman"/>
            </a:endParaRPr>
          </a:p>
          <a:p>
            <a:pPr algn="just">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Como resultado del proceso de enriquecimiento continuo de la publicación, esta edición 2003 presenta algunos ajustes con relación a la del 2002; hecho que obedece fundamentalmente a la incorporación y/o modificación de algunos cuadros estadísticos y gráficas, considerando, por un lado, las sugerencias de las instituciones que participan y, por otro, la necesidad de adecuaciones a partir del desarrollo del diseño conceptual para el tratamiento de los temas. </a:t>
            </a:r>
            <a:endParaRPr b="0" lang="en-US" sz="1000" spc="-1" strike="noStrike">
              <a:solidFill>
                <a:srgbClr val="000000"/>
              </a:solidFill>
              <a:latin typeface="Times New Roman"/>
            </a:endParaRPr>
          </a:p>
          <a:p>
            <a:pPr algn="just">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endParaRPr b="0" lang="en-US" sz="1000" spc="-1" strike="noStrike">
              <a:solidFill>
                <a:srgbClr val="000000"/>
              </a:solidFill>
              <a:latin typeface="Times New Roman"/>
            </a:endParaRPr>
          </a:p>
          <a:p>
            <a:pPr algn="just">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	</a:t>
            </a:r>
            <a:r>
              <a:rPr b="0" lang="es-ES_tradnl" sz="1000" spc="-1" strike="noStrike">
                <a:solidFill>
                  <a:srgbClr val="000000"/>
                </a:solidFill>
                <a:latin typeface="Arial"/>
              </a:rPr>
              <a:t>En términos de la incorporación se ofrecen innovaciones en las estadísticas correspondientes a: Educación Inicial, Técnico Superior Universitario y Nivel Superior, proporcionadas por los Institutos de Educación de los Gobiernos de los Estados.</a:t>
            </a:r>
            <a:endParaRPr b="0" lang="en-US" sz="1000" spc="-1" strike="noStrike">
              <a:solidFill>
                <a:srgbClr val="000000"/>
              </a:solidFill>
              <a:latin typeface="Times New Roman"/>
            </a:endParaRPr>
          </a:p>
          <a:p>
            <a:pPr algn="just">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endParaRPr b="0" lang="en-US" sz="1000" spc="-1" strike="noStrike">
              <a:solidFill>
                <a:srgbClr val="000000"/>
              </a:solidFill>
              <a:latin typeface="Times New Roman"/>
            </a:endParaRPr>
          </a:p>
          <a:p>
            <a:pPr algn="just">
              <a:lnSpc>
                <a:spcPct val="100000"/>
              </a:lnSpc>
              <a:tabLst>
                <a:tab algn="l" pos="0"/>
                <a:tab algn="l" pos="190440"/>
                <a:tab algn="r" pos="5715000"/>
                <a:tab algn="l" pos="5943600"/>
                <a:tab algn="l" pos="6172200"/>
                <a:tab algn="l" pos="6400800"/>
                <a:tab algn="l" pos="6629400"/>
                <a:tab algn="l" pos="6858000"/>
                <a:tab algn="l" pos="7086600"/>
                <a:tab algn="l" pos="7315200"/>
                <a:tab algn="l" pos="7543800"/>
                <a:tab algn="l" pos="7772400"/>
                <a:tab algn="l" pos="8001000"/>
                <a:tab algn="l" pos="8229600"/>
                <a:tab algn="l" pos="8458200"/>
                <a:tab algn="l" pos="8686800"/>
                <a:tab algn="l" pos="8915400"/>
                <a:tab algn="l" pos="9144000"/>
                <a:tab algn="l" pos="9372600"/>
                <a:tab algn="l" pos="9601200"/>
                <a:tab algn="l" pos="9829800"/>
                <a:tab algn="l" pos="10058400"/>
                <a:tab algn="l" pos="10287000"/>
              </a:tabLst>
            </a:pPr>
            <a:r>
              <a:rPr b="0" lang="es-ES_tradnl" sz="1000" spc="-1" strike="noStrike">
                <a:solidFill>
                  <a:srgbClr val="000000"/>
                </a:solidFill>
                <a:latin typeface="Arial"/>
              </a:rPr>
              <a:t>	</a:t>
            </a:r>
            <a:r>
              <a:rPr b="0" lang="es-ES_tradnl" sz="1000" spc="-1" strike="noStrike">
                <a:solidFill>
                  <a:srgbClr val="000000"/>
                </a:solidFill>
                <a:latin typeface="Arial"/>
              </a:rPr>
              <a:t>Asimismo, cabe destacar que la estadística proveniente de oficinas regionales o delegacionales que se presenta en cada cuadro con una anotación expresa respecto a su carácter preliminar, es susceptible de ser modificada por parte de la propia oficina que la proporcionó, independientemente de los ajustes derivados del proceso de validación por parte del área central que corresponda.</a:t>
            </a:r>
            <a:endParaRPr b="0" lang="en-US" sz="1000" spc="-1" strike="noStrike">
              <a:solidFill>
                <a:srgbClr val="000000"/>
              </a:solidFill>
              <a:latin typeface="Times New Roman"/>
            </a:endParaRPr>
          </a:p>
        </p:txBody>
      </p:sp>
      <p:sp>
        <p:nvSpPr>
          <p:cNvPr id="39" name=""/>
          <p:cNvSpPr/>
          <p:nvPr/>
        </p:nvSpPr>
        <p:spPr>
          <a:xfrm>
            <a:off x="298440" y="608040"/>
            <a:ext cx="6427800" cy="3508560"/>
          </a:xfrm>
          <a:prstGeom prst="roundRect">
            <a:avLst>
              <a:gd name="adj" fmla="val 4880"/>
            </a:avLst>
          </a:prstGeom>
          <a:noFill/>
          <a:ln w="12600">
            <a:solidFill>
              <a:srgbClr val="000000"/>
            </a:solidFill>
            <a:miter/>
          </a:ln>
        </p:spPr>
        <p:style>
          <a:lnRef idx="0"/>
          <a:fillRef idx="0"/>
          <a:effectRef idx="0"/>
          <a:fontRef idx="minor"/>
        </p:style>
        <p:txBody>
          <a:bodyPr lIns="288000" rIns="288000" tIns="288000" bIns="2880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sugerencias y comentarios podrán enviarse 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CIÓN REGIONAL SURESTE DEL INEG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lle 60 Núm. 378 entre calles 39 y 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Zona Cent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P 97000 Mérida, Yu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léfono: 01 (999) 942 17 95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ax: 01 (999) 942 17 9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GOBIERNO DEL ESTADO DE QUINTANA RO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CRETARÍA DE PLANEACIÓN Y DESARROLLO REGION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lacio de Gobierno, Andador Héroes s/n, Edificio 7 de diciemb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e Avenida Carmen Ochoa de Merino y Avenida 22 de ene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lonia Centr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P 77000 Chetumal, Q. Ro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eléfono: 01 (983) 835 05 00 exts. 1072 y 106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ax: 01 (983) 835 05 00 ext. 1066</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0T16:53:53Z</dcterms:created>
  <dc:creator>DGE-DESER</dc:creator>
  <dc:description/>
  <dc:language>en-US</dc:language>
  <cp:lastModifiedBy>ec-cpd</cp:lastModifiedBy>
  <cp:lastPrinted>2002-08-02T18:29:55Z</cp:lastPrinted>
  <dcterms:modified xsi:type="dcterms:W3CDTF">2003-07-25T18:35:23Z</dcterms:modified>
  <cp:revision>66</cp:revision>
  <dc:subject/>
  <dc:title>No Slide Title</dc:title>
</cp:coreProperties>
</file>